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C659-DF79-4C41-BDB9-5A0B7D558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alogy of Cantrell: rare syndrome, has 5 characteristic findings – omphalocele, anterior diaphragmatic hernia, sternal cleft, ectopic cordis, V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5150-2AE7-4AD0-AD9C-AE9D1E93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3CA-232D-4A63-9B7C-E64A80AB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781A-3E48-43EF-91AB-FDBA53B2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A7BD-6B2E-436E-BC60-9B3B6A78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6D0D-8C06-4F16-896C-EDC364D0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9A01-6A85-448B-AC15-978A79BF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C3A5-9062-4178-95BD-6D70940B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021-236A-49C2-89AD-617C9F8D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128-2C72-4A57-A9E6-4235A670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BC6A-07E3-436C-BFF9-CD1439E5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0DD-0F81-43C2-AF21-3B87B3EC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4765-8AA4-4249-8DE7-253CE614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546E-81C7-44F7-86C8-6B52EE0E6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medicine.com/ped/images/Large/16531653pic20.jp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hyperlink" Target="http://www.emedicine.com/ped/images/Large/16531653pic20.jpg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medicine.com/ped/images/Large/16531653pic28.jp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hyperlink" Target="http://www.emedicine.com/ped/images/Large/16531653pic28.jpg" TargetMode="External"/><Relationship Id="rId7" Type="http://schemas.openxmlformats.org/officeDocument/2006/relationships/image" Target="../media/image6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medicine.com/ped/images/Large/16531653pic27.jp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hyperlink" Target="http://www.emedicine.com/ped/images/Large/16531653pic27.jpg" TargetMode="External"/><Relationship Id="rId7" Type="http://schemas.openxmlformats.org/officeDocument/2006/relationships/image" Target="../media/image7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dominal Wall Def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scilla Joe, M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’s Hospital and Research Center at Oak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ryology of Omphaloc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ly, midgut returns to the abdomen by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eek of ge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atic layers of cephalic, caudal, and lateral folds join to close abdominal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omphalocele, folds fail to c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stroschisis and Omphaloce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d incidence of 1 in 2000 bir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le-to-female ratio is 1.5: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survival &gt; 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strosch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inc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d with young maternal age and low gra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d with prematurity and low birth w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phaloc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idence has remained cons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risk with advanced maternal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le genetic predis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d syndromes and anomalies (45-55%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gastrointest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ardi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risomy 13, 18,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EIS complex (omphalocele, bladder extrophy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rforate anus, spinal de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eckwith-Wiede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entalogy of Cantr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left pal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ulmonary hypopl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associated with maternal use of valpr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905120" y="1295280"/>
          <a:ext cx="53100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5310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ckwith-Wiedeman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523880" y="2209680"/>
          <a:ext cx="6019920" cy="39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09680"/>
                    <a:ext cx="601992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ntalogy of Cantr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P synthesized in fetal liver and excreted by fetal kidneys and crosses placenta by 12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vated maternal MSAFP in neural tube defects, abdominal wall defects, duodenal or esophageal atres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% false positi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al ultrasound after 14 weeks ge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niocentesis and fetal echocardi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GT to low intermittent s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bowel bags, saran wr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on of body heat and fluid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ful positioning to avoid kinking of mesenteric vess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5 times maintenance fluids with isotonic flu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gical Manage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ve repair within 2-4 hours of bi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closure for smaller de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ayed primary closure for large de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compromised ventilation and abdominal compartment syndr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silo with sequential reduction of abdominal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fascial 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057400" y="990720"/>
          <a:ext cx="5410080" cy="52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990720"/>
                    <a:ext cx="541008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467080" y="685800"/>
          <a:ext cx="45608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7080" y="685800"/>
                    <a:ext cx="45608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tality/Morbid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gut s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t dysmotility and prolonged i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ications from associated anomalies/syndr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1619280" y="-104760"/>
            <a:ext cx="1238256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 </a:t>
            </a:r>
            <a:r>
              <a:rPr b="0" lang="en-US" sz="36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Click here to view image full siz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09680" y="533520"/>
            <a:ext cx="4999320" cy="563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7353360" y="582300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87624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619280" y="1098720"/>
            <a:ext cx="123825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 </a:t>
            </a:r>
            <a:r>
              <a:rPr b="0" lang="en-US" sz="20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  </a:t>
            </a:r>
            <a:r>
              <a:rPr b="0" lang="en-US" sz="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Click here to view image full siz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90720" y="609480"/>
            <a:ext cx="7467480" cy="570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7353360" y="461808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-1619280" y="1022400"/>
            <a:ext cx="123825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 </a:t>
            </a:r>
            <a:r>
              <a:rPr b="0" lang="en-US" sz="2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Click here to view image full siz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14400" y="1066680"/>
            <a:ext cx="7467480" cy="5153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7353360" y="4694400"/>
            <a:ext cx="11160" cy="10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phaloc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rane sac arising from the umbilical cord covers intest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membrane layer consists of amnion and inner lining of peritone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ranging from small-&gt;giant defects containing liver, small and large bowel, stomach, spleen, ovaries, and tes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foreshortened bowel and mal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abdominal cavity and pulmonary hypo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7340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osch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embrane cove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wall defect typically 2-4cm di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al to the right side of the umbilic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contains midgut and stom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ckened, atretic, and possibly ischemic bow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mal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ryology of Gastrosch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of vascularization of the abdominal wall due to abnormal involution of the right umbilical vein or a vascular accident of omphalomesenteric artery causes abdominal wall weakness and subsequent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pture of a small omphalocele with absorption of the sac and growth of a skin bridge between the abdominal wall defect and umbilic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21:39:08Z</dcterms:created>
  <dc:creator>PJoe</dc:creator>
  <dc:description/>
  <dc:language>en-US</dc:language>
  <cp:lastModifiedBy>cinnie chou</cp:lastModifiedBy>
  <dcterms:modified xsi:type="dcterms:W3CDTF">2010-06-20T21:17:11Z</dcterms:modified>
  <cp:revision>61</cp:revision>
  <dc:subject/>
  <dc:title>PowerPoint Presentation</dc:title>
</cp:coreProperties>
</file>